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1C1-9889-4B30-B216-6C9AC9BE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784-7458-4938-9D42-A7945A66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478-1984-40B8-B2B3-210109B8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765-6E75-41C3-B636-8574FE73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93B-66DC-4EE7-9630-A36D7865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7F6-9A68-4021-94FB-66E5E8BE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737-7FC0-49A0-931B-5EDDE46C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6A6-3DB9-4D52-9A34-B24AF593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268-FB77-4877-972C-75ECD041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DE3-E046-4107-A62E-4C4000AC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B0D-6D12-4E37-BEAB-A93B606D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FAB-D9C9-45A9-B2F8-407221E9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B921-E339-446E-BB95-974578684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aronshep.com/stories/004.html" TargetMode="External"/><Relationship Id="rId2" Type="http://schemas.openxmlformats.org/officeDocument/2006/relationships/hyperlink" Target="http://www.aaronshep.com/stories/018.html" TargetMode="External"/><Relationship Id="rId3" Type="http://schemas.openxmlformats.org/officeDocument/2006/relationships/hyperlink" Target="http://www.aaronshep.com/stories/018.html" TargetMode="External"/><Relationship Id="rId4" Type="http://schemas.openxmlformats.org/officeDocument/2006/relationships/hyperlink" Target="http://www.aaronshep.com/stories/018.html" TargetMode="External"/><Relationship Id="rId5" Type="http://schemas.openxmlformats.org/officeDocument/2006/relationships/hyperlink" Target="http://www.aaronshep.com/stories/022.html" TargetMode="External"/><Relationship Id="rId6" Type="http://schemas.openxmlformats.org/officeDocument/2006/relationships/hyperlink" Target="http://www.aaronshep.com/stories/023.html" TargetMode="External"/><Relationship Id="rId7" Type="http://schemas.openxmlformats.org/officeDocument/2006/relationships/hyperlink" Target="http://www.aaronshep.com/stories/043.html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ian Folk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lying Languag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267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S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LW work in groups cooperatively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LW rewrite Asian folktales as Reader’s Theater scripts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LW perform the folktale scripts for peers and middle/elementary schools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8076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162560" cy="31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74680"/>
          <a:ext cx="8229600" cy="5921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glish Literatu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cial Studi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eat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rade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erials for p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lktales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19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a world map of the country of the tale’s ori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udents Introduce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ior to performance, students will introduce any unusual or new vocabular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20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fter Performance of Each Folkt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fter the performance of each tale, discuss the lesson learned from 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238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form Folktales to Scri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ngs for Breakfast: A Hindu Leg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Gifts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al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Dad: A Tale of India and 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oo-too-moo and the Giant: A Tale of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he Millionaire Miser: A Buddhist Leg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he Four Puppets: A Tale of Bu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533520" y="5029200"/>
            <a:ext cx="7315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 Writing by Planning and Recording Improvisations Based on Personal Experience and Herita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searching by Finding Information to Support Dramat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502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ading for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8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munication Skills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360" y="1981080"/>
            <a:ext cx="4508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18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Researc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086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cultur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076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22:44:38Z</dcterms:created>
  <dc:creator>Cumberland County Schools</dc:creator>
  <dc:description/>
  <dc:language>en-US</dc:language>
  <cp:lastModifiedBy>Jane Shlensky</cp:lastModifiedBy>
  <dcterms:modified xsi:type="dcterms:W3CDTF">2008-04-19T17:11:49Z</dcterms:modified>
  <cp:revision>3</cp:revision>
  <dc:subject/>
  <dc:title>Asian Folktales</dc:title>
</cp:coreProperties>
</file>